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B79D-3C13-4D93-BDA2-EE456E9DC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210A-69E4-442A-87F4-7DB487D65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C2A2-AEB5-41B6-9B0A-6F296E2A2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6189-80B6-45B9-A95F-A50D90BA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67CC-3AF6-4491-9CC5-2F584D980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3569-9F40-4820-949F-69DDA320C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D7BD-F35D-48E6-9EA6-393992E5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4B5B-5C68-4557-BD75-5519A0DD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A13B-EFA0-4FAF-B987-87ADF31A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59BC-5848-4712-BDC6-637340A9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9726-C392-43E6-B7BF-59ADA66E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BB6E-01EB-4868-9597-F35B2940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7EA6-3CA5-403C-8CEA-E4A4EFB2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E59D-EBD6-41DA-9311-D6161A3D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823D-7CC3-4537-ADBC-79D0C3143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oran Om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Noran O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Noran Omar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Noran Omar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Noran Oma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8006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7"/>
          <p:cNvSpPr/>
          <p:nvPr/>
        </p:nvSpPr>
        <p:spPr>
          <a:xfrm>
            <a:off x="2971800" y="3886200"/>
            <a:ext cx="48769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ysha tur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nemos una fiesta quieres venir? Cuanto hente son tu llevar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 guesta:    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7"/>
          <p:cNvSpPr/>
          <p:nvPr/>
        </p:nvSpPr>
        <p:spPr>
          <a:xfrm>
            <a:off x="2743200" y="32004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khadija zulfiquar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Nora. Tu debería modelo, tu teines cuerpo perfecto, tu son alta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i celoso!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7"/>
          <p:cNvSpPr/>
          <p:nvPr/>
        </p:nvSpPr>
        <p:spPr>
          <a:xfrm>
            <a:off x="2743200" y="25146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dam Saleh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ermosa, buena noches !!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¿quieres comer mañan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7"/>
          <p:cNvSpPr/>
          <p:nvPr/>
        </p:nvSpPr>
        <p:spPr>
          <a:xfrm>
            <a:off x="2743200" y="45720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Despertarse Despertarse !!!  Mi aburrido ! Cuañdo son tu Despertarse?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666880" y="5181480"/>
            <a:ext cx="5181840" cy="6858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ara Yousef 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buenos días nora ?…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43200" y="5943600"/>
            <a:ext cx="510552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152280" y="3581280"/>
            <a:ext cx="144792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Mi nombre es Noran Omar. Yo vivo en Astoria. Tengo cotorce años. 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tengo 2 hermanas. Yo soy de Egipto y Morroc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2133720" cy="1981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2362320" y="3886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3"/>
          <a:stretch/>
        </p:blipFill>
        <p:spPr>
          <a:xfrm>
            <a:off x="2362320" y="44956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4"/>
          <a:stretch/>
        </p:blipFill>
        <p:spPr>
          <a:xfrm>
            <a:off x="1143000" y="50292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0" y="5638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ysha tur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609480" y="5715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iovanna Cont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1219320" y="5715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ra Youse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"/>
          <p:cNvPicPr/>
          <p:nvPr/>
        </p:nvPicPr>
        <p:blipFill>
          <a:blip r:embed="rId5"/>
          <a:stretch/>
        </p:blipFill>
        <p:spPr>
          <a:xfrm>
            <a:off x="17524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97" name="TextBox 11"/>
          <p:cNvSpPr/>
          <p:nvPr/>
        </p:nvSpPr>
        <p:spPr>
          <a:xfrm>
            <a:off x="1828800" y="5715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hadijaa Zulfiqu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2" descr=""/>
          <p:cNvPicPr/>
          <p:nvPr/>
        </p:nvPicPr>
        <p:blipFill>
          <a:blip r:embed="rId6"/>
          <a:stretch/>
        </p:blipFill>
        <p:spPr>
          <a:xfrm>
            <a:off x="2362320" y="2438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7"/>
          <a:stretch/>
        </p:blipFill>
        <p:spPr>
          <a:xfrm>
            <a:off x="2362320" y="3124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8"/>
          <a:stretch/>
        </p:blipFill>
        <p:spPr>
          <a:xfrm>
            <a:off x="0" y="5029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9"/>
          <a:stretch/>
        </p:blipFill>
        <p:spPr>
          <a:xfrm>
            <a:off x="609480" y="50292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10"/>
          <a:stretch/>
        </p:blipFill>
        <p:spPr>
          <a:xfrm>
            <a:off x="2438280" y="52578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"/>
          <p:cNvPicPr/>
          <p:nvPr/>
        </p:nvPicPr>
        <p:blipFill>
          <a:blip r:embed="rId11"/>
          <a:stretch/>
        </p:blipFill>
        <p:spPr>
          <a:xfrm>
            <a:off x="-12600" y="6019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"/>
          <p:cNvSpPr/>
          <p:nvPr/>
        </p:nvSpPr>
        <p:spPr>
          <a:xfrm>
            <a:off x="0" y="6653160"/>
            <a:ext cx="82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am Sale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6T14:02:58Z</dcterms:modified>
  <cp:revision>108</cp:revision>
  <dc:subject/>
  <dc:title>Profile</dc:title>
</cp:coreProperties>
</file>